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27B-6F2D-4696-81F7-4E4C8D8C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103052B-561A-41E4-9F31-2E7E23D66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829DCBC-8319-479B-BC39-858617BFE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118B639-062A-4E1F-B21F-E0ACC03094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B253FED-C560-44E8-980E-CFBF26F5A8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B32AFB6-BB36-407B-B938-1269D49129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C9512BA-C62F-40FE-8858-4E358024CE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BD8E974-F01B-49FD-B178-9A9A5378DF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F079CDE-0F29-427B-A5B7-B700973FEE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969FBD8-F49F-4995-8B7B-0B5ABC4FA4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314BE15-2900-471C-A8B1-B408691BA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30B2568-B1EA-44E8-BED1-E06BD53F86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97343E7-A9FF-4830-AAB4-E23DDC8540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C78953F-FC6C-400D-AA7C-F064299B48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B7FE81F-731C-44B2-8326-5C05F1B44A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86C9BEB-4AF8-4550-9754-E7BF4909A5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2AFA1B5-DCD1-4FE5-A39B-DC8B9B7936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973D566-B38F-4EE8-BA36-5210612F4E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A89BCB4-F088-4CBF-BE2D-165066A733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68D39FE-3C53-4234-9733-FF58BA4FFF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7CDEC14-C04F-466A-BD18-5243AE588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7C79F55-14FB-4DBE-B194-B0C529F955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F5BCCA5-66D8-48DD-BFD1-A2FF7E5EC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47392ED-E938-49AD-AEA9-E6923386D3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DC33F1E-B22E-4DE9-8644-E5326E524D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DAE53E9-D173-436B-A799-2C03A1F371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38C581A-41AD-4BFA-A602-691D550CF1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C22B6CB-2666-4710-8632-B0E8798E38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F837BB1-D629-4406-AC7C-4F54FA7470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7E788A4-32B2-45C2-BE5B-0779CEE59F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5D4D03B-A8C9-415F-95C3-3316223A85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48495FB-21D1-46BD-A94F-2551F64314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E1677A5-6DDE-42F5-9941-D8E9ED4DA1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6EDBCC5-31C9-46B6-8908-2533C184F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D6BBD45-A74B-4CC5-AF6D-34C8D8398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986D84E-FEA9-46DB-A95B-2112ED3AF4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88C-A81B-47E3-9ED1-6CA2C24E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730-B117-4680-AB54-0C4F7DAD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0C2-274A-4AD0-BD23-842976D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591-C17F-4A1E-919B-0C657EB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DC9-2A0E-44B1-8FD9-4365DE8A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D14-1069-4FAF-8102-84F38AEF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684-8392-48EF-A287-0F27641D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849-A376-4443-BB25-B06AEB69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EAF-6B72-4B5F-8575-17128B88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A3D-EACF-4EF4-A607-90D888F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67F-AE90-4DAD-B4E1-C73B62A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F50-2736-4880-B574-D7413A8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4AFF-DEC9-4AC2-9F9C-0FEF5D98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zarkscrwp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3 grant: College-Ready Wri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3040" y="3889440"/>
            <a:ext cx="63979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qu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October 2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WP Icon"/>
          <p:cNvPicPr/>
          <p:nvPr/>
        </p:nvPicPr>
        <p:blipFill>
          <a:blip r:embed="rId1"/>
          <a:stretch/>
        </p:blipFill>
        <p:spPr>
          <a:xfrm>
            <a:off x="3048120" y="762120"/>
            <a:ext cx="294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ur 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0880" y="1143000"/>
            <a:ext cx="8229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your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who will go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ever has the next birthday will be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st person speaks for 1 min about his/he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up members, listen. Some of you will be asked to share what one of your group members has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person stops talking before time is called, group members ask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eat with person 2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57200" y="1371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lently reread your response to free-writing prompt 3 (my biggest challenge i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this free-write into a question you would like your group to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57200" y="1371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the consultancy protocol (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rounds of consultanc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rief from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7200" y="13716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the consultancy work for the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should the entire group h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problems are we fac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day, please add challenges in the form of questions to the “challenges” char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0880" y="13716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ease enjoy mor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ill reconvene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n you return, please form a group of 4 with entirely new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uperlativ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00 Take Away (and fun with mat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990720"/>
            <a:ext cx="82296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word is worth $.10 (articles are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have $2.00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is your take away from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activity has a high likelihood (define?) of serious injury or death—i.e., paralysis, dismemberment, it is too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99072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ill reconvene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57200" y="1752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adding your content to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ozarkscrwp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ee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ea typeface="ＭＳ Ｐゴシック"/>
                <a:hlinkClick r:id="rId1"/>
              </a:rPr>
              <a:t>Further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OWP Icon"/>
          <p:cNvPicPr/>
          <p:nvPr/>
        </p:nvPicPr>
        <p:blipFill>
          <a:blip r:embed="rId2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736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from the Mentor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80880" y="18954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09480" y="1905120"/>
            <a:ext cx="8229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to engage in an exercise featuring truisms, text structures, and kernel essays, embedded in a focused free-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urpose: to finish an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njoy som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it in groups of 3. Try to include representatives from more than one building in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ot need your computers righ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beliefs abou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elief, “truism,” tru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kernel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write a first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17524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xt Mentor Less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can we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sition notebooks—who would lik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ing resources—using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assroom coaching/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30200" y="1219320"/>
            <a:ext cx="8408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duat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ent to use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earch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nex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ng an idea for a writing assignment/activity that you would like to try second semester. Something brand new or a major modifications to something you’ve done in the past. Bring something printed out (doesn’t have to be final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-da-bing! -- Our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r feet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saw (heard, tou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you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h?id=H"/>
          <p:cNvPicPr/>
          <p:nvPr/>
        </p:nvPicPr>
        <p:blipFill>
          <a:blip r:embed="rId1"/>
          <a:stretch/>
        </p:blipFill>
        <p:spPr>
          <a:xfrm>
            <a:off x="60199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th?id=H"/>
          <p:cNvPicPr/>
          <p:nvPr/>
        </p:nvPicPr>
        <p:blipFill>
          <a:blip r:embed="rId2"/>
          <a:stretch/>
        </p:blipFill>
        <p:spPr>
          <a:xfrm>
            <a:off x="6934320" y="27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h?id=H"/>
          <p:cNvPicPr/>
          <p:nvPr/>
        </p:nvPicPr>
        <p:blipFill>
          <a:blip r:embed="rId3"/>
          <a:stretch/>
        </p:blipFill>
        <p:spPr>
          <a:xfrm>
            <a:off x="6095880" y="411480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OWP Icon"/>
          <p:cNvPicPr/>
          <p:nvPr/>
        </p:nvPicPr>
        <p:blipFill>
          <a:blip r:embed="rId4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 what’s happening in you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wo strategies you coul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where you want to g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7200" y="685800"/>
            <a:ext cx="815328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ill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-write about our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are what’s been happening in 3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e in Believing and Doub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nd some tim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ine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 mentor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 using text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WP Icon"/>
          <p:cNvPicPr/>
          <p:nvPr/>
        </p:nvPicPr>
        <p:blipFill>
          <a:blip r:embed="rId1"/>
          <a:stretch/>
        </p:blipFill>
        <p:spPr>
          <a:xfrm>
            <a:off x="672480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Non-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858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To continue the process of reflecting and planning toward our individual and grant goals; to discuss successes and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urpos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solve all of our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WP Icon"/>
          <p:cNvPicPr/>
          <p:nvPr/>
        </p:nvPicPr>
        <p:blipFill>
          <a:blip r:embed="rId1"/>
          <a:stretch/>
        </p:blipFill>
        <p:spPr>
          <a:xfrm>
            <a:off x="6724800" y="577368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th?id=H"/>
          <p:cNvPicPr/>
          <p:nvPr/>
        </p:nvPicPr>
        <p:blipFill>
          <a:blip r:embed="rId1"/>
          <a:stretch/>
        </p:blipFill>
        <p:spPr>
          <a:xfrm>
            <a:off x="5562720" y="457200"/>
            <a:ext cx="2971800" cy="2239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4920" y="17524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 your name to the sign-in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ease set cell phones to vib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l comfortable stepping outside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th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king Lo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appreciate your name ta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OWP Icon"/>
          <p:cNvPicPr/>
          <p:nvPr/>
        </p:nvPicPr>
        <p:blipFill>
          <a:blip r:embed="rId2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art and en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ring food (healthy and sinfu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talk and collaborate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keep Laquey at the fore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receptive to learning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ddress our comfort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introduce researched best practic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vide/develop materials for content area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into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rand new thing 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 tried in my classroom related to writing/this PD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success so fa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challeng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our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17524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lently reread your response to the first prompt (one thing I’ve tried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line something you want to share—a maximum of on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p 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0:17:00Z</dcterms:created>
  <dc:creator>Colleen</dc:creator>
  <dc:description/>
  <dc:language>en-US</dc:language>
  <cp:lastModifiedBy>Colleen</cp:lastModifiedBy>
  <dcterms:modified xsi:type="dcterms:W3CDTF">2013-10-21T00:34:11Z</dcterms:modified>
  <cp:revision>4</cp:revision>
  <dc:subject/>
  <dc:title>Slide 1</dc:title>
</cp:coreProperties>
</file>